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985080" cy="9285120"/>
          </a:xfrm>
          <a:custGeom>
            <a:avLst/>
            <a:gdLst>
              <a:gd name="textAreaLeft" fmla="*/ 360 w 6985080"/>
              <a:gd name="textAreaRight" fmla="*/ 6984720 w 6985080"/>
              <a:gd name="textAreaTop" fmla="*/ 360 h 9285120"/>
              <a:gd name="textAreaBottom" fmla="*/ 9284760 h 9285120"/>
            </a:gdLst>
            <a:ahLst/>
            <a:rect l="textAreaLeft" t="textAreaTop" r="textAreaRight" b="textAreaBottom"/>
            <a:pathLst>
              <a:path w="21600" h="28712">
                <a:moveTo>
                  <a:pt x="4" y="0"/>
                </a:moveTo>
                <a:arcTo wR="4" hR="4" stAng="16200000" swAng="-5400000"/>
                <a:lnTo>
                  <a:pt x="0" y="28708"/>
                </a:lnTo>
                <a:arcTo wR="4" hR="4" stAng="10800000" swAng="-5400000"/>
                <a:lnTo>
                  <a:pt x="21596" y="2871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01464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head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957120" y="-1800"/>
            <a:ext cx="301500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81160" y="705960"/>
            <a:ext cx="4610160" cy="345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8400" cy="4164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8818200"/>
            <a:ext cx="301464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957120" y="8818200"/>
            <a:ext cx="3015000" cy="453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F8B95-ECB8-4721-8526-C658FE642058}" type="slidenum"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81160" y="706320"/>
            <a:ext cx="4614840" cy="34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81160" y="706320"/>
            <a:ext cx="462276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932040" y="4409640"/>
            <a:ext cx="510984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A1A6-D148-425C-AE32-C0354038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1516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18880"/>
            <a:ext cx="771516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209A-DBEB-4EBE-954E-F5A4BB32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8816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C703-3CCB-484F-8A22-343069DE4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3200" y="167652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1760" y="167652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1888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3200" y="381888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1760" y="381888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442E-895E-404A-B36C-4881D7C04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5950-B3FA-41C2-813A-CE8161BCC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1516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DEA5-8FE3-4A45-ABC7-E4E618F3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1516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9980-31E0-43FC-BE11-C85B3A6C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F5EB-24CD-4D2C-8B97-DD714430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E566-8BFB-432D-80BA-C68370F2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720" y="130320"/>
            <a:ext cx="77594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DCF9-2A36-42DE-9F9F-64B539B2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2140-F97A-40CE-8C4B-D17D52CF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1516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D01F-9BE8-4279-BC67-07ED966F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8816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0EC0-E09E-480F-A3D8-7D194878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18880"/>
            <a:ext cx="771516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0ECF-B2D4-419C-B99E-E685DADC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1516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18880"/>
            <a:ext cx="771516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BA3B-5368-4738-8753-846C0202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8816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64DE-CF71-4284-9B7F-C62601FD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3200" y="167652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51760" y="167652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1888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3200" y="381888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51760" y="3818880"/>
            <a:ext cx="248400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AE33-B286-49E9-B510-1B1F908C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1516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8BE2-8944-4FD4-A7E7-517F88FE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9F90-97B8-4FD6-AAA9-11FDDFB6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D9D4-58D6-42FF-9657-4374B3FD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130320"/>
            <a:ext cx="775944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C42D-ED1A-479C-9870-74091455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06ED-A969-468B-B000-B16B51FF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88160" y="381888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7E09-E4C5-46D6-9D85-DA6CF59F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88160" y="1676520"/>
            <a:ext cx="376488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18880"/>
            <a:ext cx="7715160" cy="195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6994-C169-470A-AAD0-896F9E06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7315200" y="5510160"/>
            <a:ext cx="182880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130320"/>
            <a:ext cx="775944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1516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23280" indent="-323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15320" indent="-267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1996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56816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520" y="6171840"/>
            <a:ext cx="189252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8288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1840"/>
            <a:ext cx="189216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522C6-2346-40D3-951E-7E854C695A65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40" y="2967120"/>
            <a:ext cx="8026560" cy="144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1150560"/>
            <a:ext cx="775980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520" y="6248520"/>
            <a:ext cx="189252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288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AC9BD-2E50-4EF4-97C7-40C5F2C861C1}" type="slidenum">
              <a: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30080" indent="-2728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0" y="198360"/>
            <a:ext cx="6858000" cy="27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GMOD Meeting</a:t>
            </a:r>
            <a:br>
              <a:rPr sz="4400"/>
            </a:b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OICR</a:t>
            </a:r>
            <a:br>
              <a:rPr sz="4400"/>
            </a:b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July 16-17, 2008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Scott Ca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GMOD Project Coordinator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Cold Spring Harbor Laboratory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77480"/>
            <a:ext cx="829620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Good stuff since the last meeting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184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26520" indent="-3265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mod 1.0!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6520" indent="-3265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few Apollo releas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6520" indent="-3265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map 1.0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6520" indent="-3265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MOD summer schoo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6520" indent="-3265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mmunity Annotation System 1.0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6520" indent="-3265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arameciumDB annotation jambore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6520" indent="-3265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rthropod Genomics meeting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177480"/>
            <a:ext cx="776268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What's in GMOD 1.0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77184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terialized views (thanks SGN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Ontology updates (thanks again SGN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tock module (thanks ParameciumDB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mproved GFF loading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elete by GFF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177480"/>
            <a:ext cx="776268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What's on tap for GMOD 1.1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77184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o schema changes (yet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inor Apollo compatibility stuff (although that problem's already been fixed by Ed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inor fix to GFF3 preprocessing tool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177480"/>
            <a:ext cx="776268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AS 1.1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77184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r 1.1, a release of CAS-utils 0.1: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30080" indent="-27288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pollo-GBrowse CGI using a conf fil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30080" indent="-27288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 installer (MB?) to make it pret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y CAS-utils 0.1?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30080" indent="-272880">
              <a:lnSpc>
                <a:spcPct val="102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ummer school convinced me both of the need and feasibility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MODWeb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176040"/>
            <a:ext cx="77612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GMOD Summer School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771696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July 11-13 at NESCent (North Carolina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5 students, 4 instructor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igh level of competence (students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vered: Chado theory and practice, GBrowse, Apollo, CMap, CA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enerally good review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177480"/>
            <a:ext cx="776268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What's up for this meeting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77184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alk about core GMOD/CAS components: GBrowse, Apollo, MediaWiki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MOD help desk stuff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terMin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30120" indent="-3301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mmon Gene Pages (again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131400"/>
            <a:ext cx="776268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Without further adieu..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